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9DB1-62C8-4370-B805-D9FA550A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7AD8-9707-434B-B714-441B0C4A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8FA-FC94-4357-A3C9-68414DF2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CF7-2F98-46AB-A0B5-0045F438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9AF-12C2-4C73-8F6B-95B6C70B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3A5-7610-43BD-AF3D-60A31369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FDD-6275-459E-97D8-11B0AF56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2E8-B299-47D1-90D4-9C0FEAAB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C52-4DFE-436F-A19C-C1B9B1F4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B23-BA62-4D1C-82AE-A0CD589F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B61-8B3A-4D7D-B075-39AE5109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432-39A2-42E6-A5A0-8B9C12B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648-D7B3-49B7-A62F-ECA7C5B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7CA-AF25-4406-982D-4D7312C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91C1-4793-42E7-801E-7E03E148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u descripción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11-30T15:15:17Z</dcterms:modified>
  <cp:revision>101</cp:revision>
  <dc:subject/>
  <dc:title>Profile</dc:title>
</cp:coreProperties>
</file>